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972-5F93-4A61-A1BC-98859A7C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E5D-CDE1-4F3A-871E-CBBBA72C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4865B-DDE1-4FDF-95DE-7ACA797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80D0-A289-431E-B36E-3567D41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ABC85-DEF1-4A91-A28E-6DD7F8AE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012FD-FAB3-404A-9701-C3DF772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C723-8C76-4D6E-8E74-B14CF8F1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838B-8C39-4821-A5FB-DEB2BCF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F1ECA-224A-4FD9-AE84-D5AA933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D1478-8E00-47AB-BF7F-10DB75B5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6D868-320D-4B8A-A1D7-41565874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B18D7-0B11-4C52-AA0E-218F812F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EBC-A6E3-4924-80D0-DF9E5117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17BB9-442B-4A64-8224-DB9B07C5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7B1F2-958B-4D22-980B-DD9A7D10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B8E72-A959-4351-ABFC-8A7BB43B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F1D1-00C9-41A5-9C92-E207FA12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E1943-BAAE-4911-BE8D-E2AE1A63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AE956-A8B1-4F4A-A683-6C656AD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27FCF-13BB-4CE1-A912-334621A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CAE7B-5636-444F-9148-09531E3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28E66-D40F-4833-A00C-0DB8189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FF461-0867-4D62-A5B5-4AB56055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254-2573-4140-8D81-DEAF3644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48DB3-09B7-4279-A482-E6D84E83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63274-D68E-418A-BA35-C6125D29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6ACA-70E3-47C4-8F69-B2144AD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C45BF-EEC7-4BCC-8F0F-7D733462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428BC-F8AB-4A27-AA45-F6AFAAA9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CE9A8-9F34-4166-B835-0BE9498D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BF9EA-62E4-4CD7-9F0E-4B943BAB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C21C0-E914-470E-AAD7-4FE1478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8958B-D1BB-489A-BBFF-FAB95B6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399E2-E678-48B3-A582-D7D415B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D98-603B-4C85-AB5C-ED577F2C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6964D-34F8-4A17-8470-CE03A106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F5B0A-7E61-484E-A068-E1C3C61A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D379A-AD83-4CB6-8B81-9B0DBAEE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D991F-7366-4E28-A203-BFE48F47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0E6E6-3A0B-4DD3-807A-4203F17C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7246F-5A0C-4A6B-B7B5-B1834ED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48CBA-9E06-4AF1-AEB1-8BFB235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1460C-5DD3-412D-878C-D7666B5C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D330E-63EB-4009-BB5E-A8EF2EEF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2A359-879C-4D83-A1C0-30EFC4A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6A5B-A271-49C9-B751-9F3CC6C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A832A-95FB-40E5-ADDB-308B5B0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07F59-8C35-470A-B2FD-9B9E5DDC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D3B04-319A-47B1-AA71-03C6C504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2D188-0D34-4F67-8D72-01B2BA6A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53B38-3A71-4638-A61C-7ED82342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D8EF2-96C6-4AEF-922E-C61E687C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C708A-4E14-4DDE-A28E-502B4495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9C423-7E17-4A6E-9BB3-506C9C09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51FCB-5D57-4179-A701-8311BAC0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DC7AD-79B2-4821-970D-7DAD90A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A31D-BABD-427D-8685-6BF05BD6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5DE5D-A814-44EA-A433-447A05FB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2CF0A-221A-4630-BAFE-848936D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8DD51-6B75-47C1-8285-8D0F3E1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5C438-B795-4CC8-A7D0-8AD48A2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96BFB-98E4-448A-945F-69EB298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CF8BD-2020-4719-AEB8-4B7922F1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07B05-95F5-49E6-A149-31320EEB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EE42F-F75F-4DF6-8C0D-46DEDF59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52ED8-F517-42F1-87A1-22755673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CF85D-019E-442B-A33A-9C6118E4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D38-1197-4104-8D1B-F07EBD8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41229-571F-49CE-AA37-C80EBC54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4B761-9A56-4700-89CD-9EC0E13D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C62E8-658E-4B3E-89D5-04574FA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457B8-E199-4CD8-8BB4-DB06B6A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E9E20-287D-4D80-8050-17D36C3C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187CE-AAA6-4114-B634-A5105A97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DC6AA-C7CC-44EC-8FBA-5E6671B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FEE6E-AF5D-4111-B21C-43B8A269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62B1C-7E6D-43CA-95AF-99AD5AFE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71700-6E1E-4787-8D2D-8F1A45FB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AE21-5EEC-490D-BF19-8E7B394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B3048-BE24-413E-B79C-BB69DC7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A47F5-721E-4075-8255-FB263A8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412EE-6E33-44BB-B173-F14D81A4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A2DE9-339C-49A1-A2BD-FA5F7A6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4EC01-5AB8-4C13-8BD3-99BC416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18BAB-2A71-4E11-A984-0AB7CC1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C3FA5-40E8-4609-B4A6-2E5E6D3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1B9CB-61E2-43F2-8C74-1EE030E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E644F-489C-49B7-8B2B-2F7E706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C0E8C-342E-4CBD-A335-04B4B1A8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4496-55C8-4D7B-BEFC-86FBF4AB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B6DEC-471B-4996-89E7-4C9D5F1D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03F65-ADC2-4AB3-B066-9197429A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AE483-6D14-4911-9796-BE1FA81B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1364B-2C1A-4D9C-8467-0CE44E6A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CC0FC-9E4D-47C0-8EBC-F7A79B34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AB210-47FC-4F76-940D-4C81409A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8EB4A-753A-4EB1-9CC6-2339F14C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2184C-B77B-438B-898A-851E236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BD6C4-3E95-49CA-9B73-AC6DC13B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AD9BE-CF4F-4E6E-8D40-5ABC2AD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078B-B2A7-4D88-8655-9C44AB56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5C395-507A-457A-906A-2520B2D9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88D88-E6D1-4557-8868-2A42A04E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DBB3A-61DD-4AA5-B36B-D6030579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E7D57-6E3A-4C50-AE1E-2CCA4A4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C9A88-0E37-4478-BF90-72C62024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025B1-DD87-4C7D-9220-D6AB4758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DAFFC-011F-4EBB-BE6C-8C838AB6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3DE49-43CE-4087-9F93-46317F18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638B7-35D7-4F63-8C95-DE4C4063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49B01-D012-40F2-96F7-1C08399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94C-419F-4701-A06E-863EE58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63A3-3C15-44B7-A05B-2A34240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F2912-8855-40FB-87BE-F26DB441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4153F-A4F2-4C1A-8BEF-A22B1AC7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7F78B-9297-468C-82A4-B457AED2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0751F-704B-4ECB-B823-D7D02D36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FA446-AE20-4733-A7FA-59261BD2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ECF43-1885-439F-80BB-CCFB783F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D23FD-9127-49F4-9BA1-9829FAC1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685DE-2E74-460F-BAD0-9B31C66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997F6-2F4F-4E8B-8B30-8EE9E57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F47C4-3BE8-400B-ADFE-C41C125D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351B-71E2-4C52-A2D4-E619510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111F9-5134-474B-B47C-A074AE36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9A0EC-A281-4295-A565-8390B4FE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9F5E9-853A-417D-9663-468257A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C498D-0B84-4D8F-BAC0-D4D71479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BB166-82BF-4FD7-9E73-C4913619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17390-C043-4A87-A776-C5357D77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AFFFF-E003-4210-9CEA-4EEF6BEC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01A8C-C15F-4C13-A2E2-124F60B1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AF860-9B2B-452B-8150-745C3275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43B62-0378-41BE-8843-0AE2731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E7BA-7F76-4CC8-B6A8-34DB0887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4B6CE-EF60-4C20-9E7E-59CD5799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E4F99-2F2B-4DEB-8332-B6D554AF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A7D96-B18D-488B-B4C7-CA41F1C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34631-D31B-44F9-A2E4-AB47BF7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BB2173-A9C2-41BC-A125-27D4301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9EEFF-CB6A-445B-96A1-14F1ED8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515AD-C7B0-41AF-B74B-0F75C371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2B2DC-C490-44D8-87B1-6BF94E42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F9F88-DE88-4E84-9AEA-9F5AEC6C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B93EED-A3CD-484F-9D9B-75FEDA8D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77E5-A2BA-40D8-9E5C-E7805FED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AD198-232D-4218-AAEA-19C1D0DF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C4D11-CF8C-4B37-AF88-24218C4A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3959F-72B2-47C6-BCEA-06DC619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3F00A4-6126-4D0D-92D0-86BE364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837F8-751F-4437-9E26-6D86A55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CB9E3-148F-47B0-AEA4-9BC11A2B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6B40F-6F1A-4271-BEE3-63AF8C6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341A2-861D-4A02-9D30-16AD9D13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DE93A-BBA4-42AA-9F21-6B40699E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B2192C-008E-48AC-BA0A-3A768749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218-8141-4A3E-A40E-25CCF059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37F87C-B4D1-4951-857B-9D21AB43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3BBB93-8ABC-4FC6-9D1A-BF0CA39C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A3B06-1827-467B-9509-26D9A6D0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56130-3E75-450D-818F-A7A7CF22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08D2D-E7E1-4C7F-9BB4-F4E39ADF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5CB00-912D-4F66-BE9B-EAD9053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680C5-7E9C-445C-A947-49855BB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7F155-0CB2-468C-B9E9-A9B36CBE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3BF56-2BF5-418B-8C26-72624A1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90DE8-1F6E-4525-8FA5-5D573A0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6D1D-DCE4-412C-B6A1-B4B0B3A3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D2829-5AAC-40CC-ABD5-38EEE7CE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1AC72-E4BE-4113-9E92-586B0898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3830C-6D72-4B0A-B24B-5AF60376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36F0-B9E1-4E2A-BB8D-3721B4FC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8A31-960A-4EE2-BD9C-F0E2D8C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1B9A-152D-4288-8FB5-15835539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0EF9-C08C-4D4E-87BC-9711DBD7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EF2-4121-40F8-BDD3-6FF4ED39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6B17-9693-4261-B5BD-2E15B70A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FD89-88C8-42EC-AC72-ED7EF10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7AEC-E58A-4A3B-8375-CECE036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4F84-46E5-4651-B4A5-4AB3583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99C4-6C95-471E-B755-1E13762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B9DA-CA71-42FE-A0A6-5EB34997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4F86-86FE-4D3A-B534-76F6DBB4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0C71-F7A2-4849-8DFD-F4F7BA4F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1D647-45B1-4A8E-9311-6E0F285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33DB-3977-4041-9238-33CFF619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0C5-973F-4A65-BEA2-60630063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7F70-7019-4C9B-949F-3C0EBE79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1004-1237-4AF5-8269-D04158DB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BC8F-C9A4-4F4F-8E0B-83F31C72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665D-9189-4460-A73D-F30D58C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7393-792D-4A04-ACB5-6C1A6AA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ECB28-8CB0-47A7-B889-3FF298C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3CD2-1C37-4068-BEAD-5F7F4AB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318D-D6C5-4C0E-BCEE-2F12E0D7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B52D-A4C9-49EA-8C97-3CB201F7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A826-B8A7-4951-94CC-12568258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64D-410E-4464-9101-EB55C4A8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C617F-EB6F-4079-B284-4F5E576F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B8920-812C-422F-B622-54B4958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BD559-5DFB-4A42-B1CE-F4F435D5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9B7BC-6CB1-46D4-B2F2-27E08640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34EB-98FA-46AE-9598-118502B8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02FF1-F8F6-44AD-A96E-275279F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AE418-E18E-40C6-8A4F-62055A81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35672-7FF8-4EA8-A9A5-3826E51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F16B-4ED4-4D80-83A0-C3268544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FBEC-6DB5-465E-B9D4-9856CC70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B26-AAD3-4B9F-8862-4FBB1E51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6EFD-BEBA-4537-AA75-A76EEA29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47F0-4A5E-42D0-AE65-7B343347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25ACB-6D18-4BC1-8A22-EAE7798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69FDE-D431-4B0F-8A7F-1B0BC9DC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97DC-59C4-416A-B363-32329818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7E84-8324-4F46-952C-8DA122F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20F80-967E-4FB9-AD22-9679B32A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4920-241C-4316-BEFC-B1D9F7A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D172-7A7D-4172-A843-A53B977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2809-6662-4DA5-8FE5-87F70419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125-C8D5-4292-B3B4-E3347D43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FDAB-5C64-4E98-8524-1E2F555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67D6-F500-4368-8093-D2F9C88D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E09FA-8C02-4371-8F61-63682942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A7E2B-D2D8-429B-9572-0974BEB7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63967-2A32-4045-8C9B-E98CA82C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B8265-492D-4091-B507-A83A269D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A950-F457-4AEA-8342-082D0C36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5C4A-C5AE-45AC-8896-3B3216F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7659-B063-4424-85EE-3160081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C2AAF-BDDC-45CE-89C3-A2CC1C4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7FF-95E7-460C-B599-737BB8B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0EA2-0904-4374-A018-1C54159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B2AE4-7FA0-4A65-9BB6-E79559FA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EE82-94EB-4B68-9818-9E2A2FB3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CF66-B174-456B-9B0E-B71D26F6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DFA3-4755-4828-8501-9DB5E4B0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6CE1-A675-426B-9645-CF309A0C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E88ED-AAE5-48DB-88EF-7D123821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0FFD3-69C6-4175-A6CE-A0E8BE8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C206E-440A-4FEE-B962-53E03DBD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DE06-3898-49AA-B407-66AD9541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CDC-15BA-46B5-AD3A-CDAA09C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72FE-A3D7-40EB-86E4-EE81FC92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7FEB1-B052-4BAB-B5A0-94706FE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82AC4-3DE8-4390-8AC2-58AEEB1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A322-6BAB-4496-882B-8729622B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EF2BB-7AC1-4D92-9F49-72BF7699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27B18-8190-4D9B-B0E8-E10C5217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82F74-C147-4875-B356-8CF27F10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8DA04-097C-4158-9C74-C3EE6E55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527F7-A756-4034-8AE3-29BD4292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00A2E-B547-45EC-8BC8-3BD7E758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AB24-901F-418C-A655-9EB311B2F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29BF-EDF3-4653-A35B-DC5A5B28C2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0F0A-7C12-4B98-BA32-6C4076C7D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C64-F95A-4503-9CD8-CE635D353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C635-6DF8-4BA9-867C-9FF0059EAA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DB5E-5708-4E1B-8406-702BF2892E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DE51-325E-4567-844B-AFE5B3B6A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718F-EDCC-4D65-B181-6CBA75EA52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C2B0-E580-427F-802F-DE3CF4FE1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4BAD-6C07-4D5D-9195-40B045F471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0ABA-9F51-4F9E-A2F7-41E111F011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752-F97F-4F4A-A001-242918CCF8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1FD-73FA-4DCB-9D1F-C889F7A99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BA33-7904-43E5-9707-0BCC194352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9313-29D2-4F96-88A3-82C63B428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3EDA-4BBB-4875-AF65-5EE675EC16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096F-7BC7-4D4D-8331-0CEB6C9F6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8F4E-0553-4782-A758-E28004AF7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F577-D23C-4D9F-9AC3-77846CDCE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10CF-36FB-42DE-8B07-E05FEBEC3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C047-97E6-4AB0-BA1A-3975130EC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FC59-78D7-4B8C-A0FD-5F3081E94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E5DE-ABD5-44D1-B3F8-0446EE107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7B28-EE42-4199-B8B5-23E24A9917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959C-1CF8-4139-A045-5D89675F58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410D-078E-4815-8D20-0897627FA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F093-1FB7-41AF-BA9F-888BA9F0A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FFA-0792-4B35-BD4E-645A35250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A11A-87CC-4E0D-9F05-BCAD66C67A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F98-2092-4E8E-8997-33FA5942E0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EA6-E6B1-4C06-8829-850828442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C91-BE99-461C-87B4-1050B90B80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A95-8570-4503-8500-C77D3B45C6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1235-E509-4782-B976-417CDA866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E51-10DD-483D-96A9-11E6A56BA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9BE-F3A9-456E-A51C-8CAB5A4C8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92F-B39F-48AF-8E4E-77EC740757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5D2-0DE3-4550-8808-993C6F8A6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ECE2-51DF-428E-B11B-785088D5F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6D67-ADFA-4DD2-B68F-9CA8959ABF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52520" y="3024360"/>
            <a:ext cx="463896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352440" y="1604880"/>
            <a:ext cx="8439120" cy="3648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730080" y="162252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24000" y="900000"/>
            <a:ext cx="8496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24000" y="933480"/>
            <a:ext cx="8496000" cy="5638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750960" y="30909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750960" y="34988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750960" y="39276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750960" y="43560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750960" y="48052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750960" y="524340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8"/>
          <a:stretch/>
        </p:blipFill>
        <p:spPr>
          <a:xfrm>
            <a:off x="750960" y="567216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9"/>
          <a:stretch/>
        </p:blipFill>
        <p:spPr>
          <a:xfrm>
            <a:off x="750960" y="612288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262080" y="714240"/>
            <a:ext cx="8619840" cy="6086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642960" y="66348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642960" y="1079640"/>
            <a:ext cx="542880" cy="431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4"/>
          <a:stretch/>
        </p:blipFill>
        <p:spPr>
          <a:xfrm>
            <a:off x="1071720" y="332748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5"/>
          <a:stretch/>
        </p:blipFill>
        <p:spPr>
          <a:xfrm>
            <a:off x="2714760" y="4643280"/>
            <a:ext cx="1500120" cy="368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6"/>
          <a:stretch/>
        </p:blipFill>
        <p:spPr>
          <a:xfrm>
            <a:off x="2786040" y="550080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7"/>
          <a:stretch/>
        </p:blipFill>
        <p:spPr>
          <a:xfrm>
            <a:off x="2214720" y="6389640"/>
            <a:ext cx="857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299880" y="857160"/>
            <a:ext cx="8544240" cy="5705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1643040" y="1297080"/>
            <a:ext cx="157176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2214720" y="17254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1101600" y="21747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4286160" y="261144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7378560" y="304164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7"/>
          <a:stretch/>
        </p:blipFill>
        <p:spPr>
          <a:xfrm>
            <a:off x="1368360" y="4349880"/>
            <a:ext cx="120348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8"/>
          <a:stretch/>
        </p:blipFill>
        <p:spPr>
          <a:xfrm>
            <a:off x="1143000" y="5654520"/>
            <a:ext cx="47149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14280" y="961920"/>
            <a:ext cx="8515440" cy="5610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285840" y="969840"/>
            <a:ext cx="877572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285840" y="18255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285840" y="27255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285840" y="3578400"/>
            <a:ext cx="877572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366840" y="2376360"/>
            <a:ext cx="84103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714240" y="735120"/>
            <a:ext cx="7759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324000" y="928800"/>
            <a:ext cx="8496000" cy="5667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2"/>
          <a:stretch/>
        </p:blipFill>
        <p:spPr>
          <a:xfrm>
            <a:off x="642960" y="9288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642960" y="31431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642960" y="488628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4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